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ACFBA-8658-4079-B65E-22F5869F2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D7AA3-3D96-472B-A405-38FD83281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662E7-2D48-406E-AB8B-2C7DA6C8C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F7F4B-F871-4FB4-9D3D-AAFBA60EA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41B5CF-890A-4541-8CC2-4189AD73B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A433CA-6353-49FD-AFDC-DC64DB191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8777E9-0CC9-41C8-ADD7-29B72E93F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EE35D8-48AF-4703-9ECF-07CAB0B88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D1E2BF-5DDA-4F40-ABB8-A65F0C606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CF8956-F9C7-43AD-868E-29879D314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5CB225-3B04-44A1-849B-C2C758BA2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157B9-3B52-4583-9A58-DB75802C7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0774FF-B867-4318-933F-CBDEEF125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299C17-F750-4338-83DA-57F6E110E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CF62CB-97AC-428D-89F9-2CB21BFE3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A573AE-32FB-434D-B9C0-508C6C143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725752-A610-4E3E-B29F-61314176D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DA42B-A6BF-42B1-924E-78510241E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68D71-7E2C-4903-A690-D03DCA2DF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4A15C-C308-4C4A-BC21-CCA9FD29D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D4EC2-1E9B-4266-87A3-822DCEED9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42081-FA58-414C-B732-03B7263B7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C8624-CF66-4881-8F26-664F3A4E2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E2979-6793-47C4-AEF3-8A5021604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0DEEB-BB2C-4469-A2B4-B310FA09308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96D9E-2475-46C3-827D-7EFC9D5615C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0" spc="-1" strike="noStrike">
                <a:solidFill>
                  <a:srgbClr val="ffffff"/>
                </a:solidFill>
                <a:latin typeface="Garamond"/>
              </a:rPr>
              <a:t>Jos</a:t>
            </a:r>
            <a:r>
              <a:rPr b="0" lang="es-ES" sz="8000" spc="-1" strike="noStrike">
                <a:solidFill>
                  <a:srgbClr val="ffffff"/>
                </a:solidFill>
                <a:latin typeface="Garamond"/>
                <a:ea typeface="Tahoma"/>
              </a:rPr>
              <a:t>é Martí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837720" y="525780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Garamond"/>
              </a:rPr>
              <a:t>El Padre de la Revoluci</a:t>
            </a:r>
            <a:r>
              <a:rPr b="0" lang="es-ES" sz="4000" spc="-1" strike="noStrike">
                <a:solidFill>
                  <a:srgbClr val="ffffff"/>
                </a:solidFill>
                <a:latin typeface="Garamond"/>
                <a:ea typeface="Tahoma"/>
              </a:rPr>
              <a:t>ón Cubana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3505320" y="1981080"/>
            <a:ext cx="201456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Garamond"/>
              </a:rPr>
              <a:t>Interpretació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José Martí dijo en la introducción a </a:t>
            </a:r>
            <a:r>
              <a:rPr b="0" i="1" lang="es-ES" sz="3200" spc="-1" strike="noStrike">
                <a:solidFill>
                  <a:srgbClr val="ffffff"/>
                </a:solidFill>
                <a:latin typeface="Garamond"/>
              </a:rPr>
              <a:t>Versos Sencillos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Se imprimen estos versos porque […] amo la sencillez, y creo en la necesidad de poner el sentimiento en formas llanas y sinceras.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533520" y="4952880"/>
            <a:ext cx="7924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¿Como piensan que Martí hice esto?  Dame ejemplo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Garamond"/>
              </a:rPr>
              <a:t>Interpretación – Versos Sencillo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¿Que tipos de símbolos pueden encontrar en “Yo soy un hombre sincero” y que representan estos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733920"/>
            <a:ext cx="723888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c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al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c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mont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c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maripos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c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la lu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c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ciertos colores como rojo y negr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Garamond"/>
              </a:rPr>
              <a:t>Análisis – </a:t>
            </a:r>
            <a:r>
              <a:rPr b="0" i="1" lang="es-ES" sz="4400" spc="-1" strike="noStrike">
                <a:solidFill>
                  <a:srgbClr val="ffffff"/>
                </a:solidFill>
                <a:latin typeface="Garamond"/>
              </a:rPr>
              <a:t>Versos Sencillo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En la segunda estrofa de “Yo soy un hombre sincero,” Martí escribió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Yo vengo de todas part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y hacia todas partes voy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arte soy entre las artes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en los montes, monte soy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" y="5257800"/>
            <a:ext cx="502920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¿Que representa esta estrofa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Garamond"/>
              </a:rPr>
              <a:t>Flores de Destierro – “Dos Patrias”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6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uno de los poemas más conocidos de Martí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6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Dos Patrias es una parte de la composición </a:t>
            </a:r>
            <a:r>
              <a:rPr b="0" i="1" lang="es-ES" sz="2800" spc="-1" strike="noStrike">
                <a:solidFill>
                  <a:srgbClr val="ffffff"/>
                </a:solidFill>
                <a:latin typeface="Garamond"/>
              </a:rPr>
              <a:t>Flores del Destierr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6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Es un poema patriótico (fue escrito durante la revolución de Cuba contra España) – él le dijo al lector que es la hora de luchar por la independenci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6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Es un poema modernist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s-ES" sz="4400" spc="-1" strike="noStrike">
                <a:solidFill>
                  <a:srgbClr val="ffffff"/>
                </a:solidFill>
                <a:latin typeface="Garamond"/>
              </a:rPr>
              <a:t>Dos Patrias”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28240" y="1523520"/>
            <a:ext cx="4343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Garamond"/>
              </a:rPr>
              <a:t>Dos Patrias tengo yo: Cuba y la noche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Garamond"/>
              </a:rPr>
              <a:t>¿O son una las dos?  No bien retir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Garamond"/>
              </a:rPr>
              <a:t>su majestad el sol, con largos velo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Garamond"/>
              </a:rPr>
              <a:t>y un clavel en la mano, silenciosa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Garamond"/>
              </a:rPr>
              <a:t>Cuba cual viuda triste me aparece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Garamond"/>
              </a:rPr>
              <a:t>¡Yo sé cuál es ese clavel sangrient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Garamond"/>
              </a:rPr>
              <a:t>que en la mano le tiembla!  Está vací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Garamond"/>
              </a:rPr>
              <a:t>mi pecho, destrozado está y vacío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Garamond"/>
              </a:rPr>
              <a:t>en donde estaba el corazón.  Ya es hora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Garamond"/>
              </a:rPr>
              <a:t>de empezar a morir.  La noche es buen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Garamond"/>
              </a:rPr>
              <a:t>para decir adiós.  La luz estorb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4419720" y="1600200"/>
            <a:ext cx="533376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Garamond"/>
              </a:rPr>
              <a:t>y la palabra humana.  El univers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Garamond"/>
              </a:rPr>
              <a:t>habla mejor que el hombr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Garamond"/>
              </a:rPr>
              <a:t>Cual bander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Garamond"/>
              </a:rPr>
              <a:t>que invita a batallar, la llama roj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Garamond"/>
              </a:rPr>
              <a:t>de la vela flamea.  Las ventan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Garamond"/>
              </a:rPr>
              <a:t>abro, ya estrecho en mí.  Muda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s-ES" sz="2000" spc="-1" strike="noStrike">
                <a:solidFill>
                  <a:srgbClr val="ffffff"/>
                </a:solidFill>
                <a:latin typeface="Garamond"/>
              </a:rPr>
              <a:t>rompiend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Garamond"/>
              </a:rPr>
              <a:t>las hojas del clavel, como una nub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Garamond"/>
              </a:rPr>
              <a:t>que enturbia el cielo, Cuba, viuda, pasa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s-ES" sz="4400" spc="-1" strike="noStrike">
                <a:solidFill>
                  <a:srgbClr val="ffffff"/>
                </a:solidFill>
                <a:latin typeface="Garamond"/>
              </a:rPr>
              <a:t>Dos Patrias” - Analysi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8000"/>
          </a:bodyPr>
          <a:p>
            <a:pPr marL="164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¿A qué compara Cuba?  ¿Que significa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164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164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¿Hay otros símbolos y metáforas en este poema?  ¿Cuáes son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164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041560" y="3994200"/>
            <a:ext cx="5730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Garamond"/>
              </a:rPr>
              <a:t>Bibliografí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c6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http://www.countriesquest.com/caribbean/cuba/culture.ht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c6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Foner, Philip S. </a:t>
            </a:r>
            <a:r>
              <a:rPr b="0" lang="es-ES" sz="3200" spc="-1" strike="noStrike" u="sng">
                <a:solidFill>
                  <a:srgbClr val="ffffff"/>
                </a:solidFill>
                <a:uFillTx/>
                <a:latin typeface="Garamond"/>
              </a:rPr>
              <a:t>José Martí: Major Poems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. Holmes &amp; Meier, 1982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c6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Rotker, Susana. </a:t>
            </a:r>
            <a:r>
              <a:rPr b="0" lang="es-ES" sz="3200" spc="-1" strike="noStrike" u="sng">
                <a:solidFill>
                  <a:srgbClr val="ffffff"/>
                </a:solidFill>
                <a:uFillTx/>
                <a:latin typeface="Garamond"/>
              </a:rPr>
              <a:t>The American Chronicles of José Martí: Journalism and Modernity in Spanish America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. UP of New England, 2000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c6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Introduccion a la Literatura Latinoaméric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es-ES" sz="5400" spc="-1" strike="noStrike">
                <a:solidFill>
                  <a:srgbClr val="ffffff"/>
                </a:solidFill>
                <a:latin typeface="Garamond"/>
              </a:rPr>
              <a:t>Su Vida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601"/>
              </a:spcBef>
              <a:buClr>
                <a:srgbClr val="00c6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1853 – 1895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buClr>
                <a:srgbClr val="00c6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nació en Cuba a padres españo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buClr>
                <a:srgbClr val="00c6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participó en la lucha política por la independencia de Cub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buClr>
                <a:srgbClr val="00c6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a causa de su participación en la revolución, fue desterrado a España de 1871 hasta 1874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buClr>
                <a:srgbClr val="00c6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pero, allí escribió </a:t>
            </a:r>
            <a:r>
              <a:rPr b="0" i="1" lang="es-ES" sz="2400" spc="-1" strike="noStrike">
                <a:solidFill>
                  <a:srgbClr val="ffffff"/>
                </a:solidFill>
                <a:latin typeface="Garamond"/>
              </a:rPr>
              <a:t>El presidio político en Cuba</a:t>
            </a: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 en 1871, lo que describe sus experiencias como prisionero en la isla de Pin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buClr>
                <a:srgbClr val="00c6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vivió en México de 1875 a 1879, donde dirigió la </a:t>
            </a:r>
            <a:r>
              <a:rPr b="0" i="1" lang="es-ES" sz="2400" spc="-1" strike="noStrike">
                <a:solidFill>
                  <a:srgbClr val="ffffff"/>
                </a:solidFill>
                <a:latin typeface="Garamond"/>
              </a:rPr>
              <a:t>Revista Univers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buClr>
                <a:srgbClr val="00c6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pasó en los Estados Unidos los últimos años de su vida (de 1880 a 1895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buClr>
                <a:srgbClr val="00c6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en 1895 regresó a Cuba para luchar por la independencia del país, pero murió en el mismo año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Garamond"/>
              </a:rPr>
              <a:t>Su Vida como Escritor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c6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fue un escritor prolífic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c6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en su prosa, sencilla, y poesía, usó ritmo, melodía, metáforas, y símbol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c6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su obra final consiste en veintisiete volúmen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c6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en Cuba y España, publicó el drama romántico </a:t>
            </a:r>
            <a:r>
              <a:rPr b="0" i="1" lang="es-ES" sz="2400" spc="-1" strike="noStrike">
                <a:solidFill>
                  <a:srgbClr val="ffffff"/>
                </a:solidFill>
                <a:latin typeface="Garamond"/>
              </a:rPr>
              <a:t>Abdala</a:t>
            </a: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 (1869) y el drama romántico-realista </a:t>
            </a:r>
            <a:r>
              <a:rPr b="0" i="1" lang="es-ES" sz="2400" spc="-1" strike="noStrike">
                <a:solidFill>
                  <a:srgbClr val="ffffff"/>
                </a:solidFill>
                <a:latin typeface="Garamond"/>
              </a:rPr>
              <a:t>La adúltera</a:t>
            </a: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 (1873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c6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en México, publicó mucha poesía y ensayos y en Guatemala escribió un drama se llama </a:t>
            </a:r>
            <a:r>
              <a:rPr b="0" i="1" lang="es-ES" sz="2400" spc="-1" strike="noStrike">
                <a:solidFill>
                  <a:srgbClr val="ffffff"/>
                </a:solidFill>
                <a:latin typeface="Garamond"/>
              </a:rPr>
              <a:t>Patria y libertad</a:t>
            </a: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 (1877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c6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sin embargo, sus obras más importantes fueron escritos durante su tiempo en los Estados Unidos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Garamond"/>
              </a:rPr>
              <a:t>Su tiempo en los Estados Unido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6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Martí es el primer poeta de la reforma poética que introduciría el modernismo y el escritor revolucionario más importante en la revolución de Cub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6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Garamond"/>
              </a:rPr>
              <a:t>Ismaelillo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 es el primer libro de poemas de Martí y fue escrito en 1882 y fue publicado en Nueva Yor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Garamond"/>
              </a:rPr>
              <a:t>Ismaelillo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c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Consiste en 15 composicion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c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Su hijo es el inspirador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c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Aspectos modernistas: cromatismo y imágenes exótic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Garamond"/>
              </a:rPr>
              <a:t>Otras Obras m</a:t>
            </a:r>
            <a:r>
              <a:rPr b="1" lang="es-ES" sz="4400" spc="-1" strike="noStrike">
                <a:solidFill>
                  <a:srgbClr val="ffffff"/>
                </a:solidFill>
                <a:latin typeface="Garamond"/>
                <a:ea typeface="Tahoma"/>
              </a:rPr>
              <a:t>ás Famosa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c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Versos libres (1878-1882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c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Flores del destierro (1885-1895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c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Versos sencillos (1891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Garamond"/>
              </a:rPr>
              <a:t>El Movimiento de Romanticismo a Modernismo en Cuba en el siglo 19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c6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Durante el tiempo del Romanticismo, obras patrióticos comenzaban aparecer en Cuba, pero el gobierno español prohibió la mayoría de las obras controversiale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c6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Entonces, los escritores románticos hablaban de la belleza de la naturaleza y la espiritualidad en vez de las política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Garamond"/>
              </a:rPr>
              <a:t>El Movimiento de Romanticismo a Modernismo en Cuba en el siglo 19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00c6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Sin embargo, cuando la gente cubana comenzaba  a desear su independencia de España, los escritores y poetas escribían sobre la cultura política y el movimiento moderno empezó en Cub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00c6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El Modernismo da mucha importancia a la belleza de la estructura y la lengua de una obra, como podemos ver en la poesía de Martí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Garamond"/>
              </a:rPr>
              <a:t>Versos sencillos – “Yo soy un hombre sincero”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c6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versos octosílab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c6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imágenes original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c6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Yo soy un hombre sincero” es el primer poema en la colección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c6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usaba símbolos que aparecen en mucha de su poesí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c6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estructura: estrofas de 4 versos, cuartetas (abab), reflexiones, y anécdot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3T00:26:34Z</dcterms:created>
  <dc:creator>UNC</dc:creator>
  <dc:description/>
  <dc:language>en-US</dc:language>
  <cp:lastModifiedBy>UNC</cp:lastModifiedBy>
  <dcterms:modified xsi:type="dcterms:W3CDTF">2006-02-23T16:25:44Z</dcterms:modified>
  <cp:revision>46</cp:revision>
  <dc:subject/>
  <dc:title>José Martí</dc:title>
</cp:coreProperties>
</file>